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wmf" ContentType="image/x-wmf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0290-76C0-4DD6-90D2-3201C81C0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E1B8-41C9-4732-89E8-92039EC5C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CE3B-4AB7-442E-8F83-6C7A37949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FD51-7E5A-4CC7-B53E-57AD875CB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E64-C6AD-4738-84F8-C7BB6A49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8A1-7294-4655-9619-B0118198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7BC-D21B-49B6-ADBB-4D4033B8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716-E866-467C-BB57-15C59C44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A8C2-124C-4A25-B17C-0CCB3ECB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A7E-B915-4A08-9777-956874D0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2BB-0208-41BD-9710-4D2B7981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AE4B-3FE8-449A-B386-298825CF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D7E-0FE8-4FBB-B0E8-38400758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433-E2BD-4919-90D6-B780FCA9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844-A08F-4422-88B2-AD31DBE7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1D35-1CD4-4940-B511-1446C5C9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7E76-2B60-4574-A3EF-CEFDC2EE0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mall D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th Doneg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Xiao 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ecorded Sound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ruff asked if he could be one to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Recorded Sound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www.unbridledmartialarts.com/Working%20Documents/News/Rex%20Kwon%20Do%201.jpg"/>
          <p:cNvPicPr/>
          <p:nvPr/>
        </p:nvPicPr>
        <p:blipFill>
          <a:blip r:embed="rId2"/>
          <a:stretch/>
        </p:blipFill>
        <p:spPr>
          <a:xfrm>
            <a:off x="2971800" y="1143000"/>
            <a:ext cx="388620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bird said, “you are much too dirty to become a ninja!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Recorded Sound" descr=""/>
          <p:cNvPicPr/>
          <p:nvPr/>
        </p:nvPicPr>
        <p:blipFill>
          <a:blip r:embed="rId1"/>
          <a:stretch/>
        </p:blipFill>
        <p:spPr>
          <a:xfrm>
            <a:off x="6477120" y="5181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Documents and Settings\sdonegan\Local Settings\Temporary Internet Files\Content.IE5\YUTPD0IJ\MCj04244680000[1].wmf"/>
          <p:cNvPicPr/>
          <p:nvPr/>
        </p:nvPicPr>
        <p:blipFill>
          <a:blip r:embed="rId2"/>
          <a:stretch/>
        </p:blipFill>
        <p:spPr>
          <a:xfrm>
            <a:off x="533520" y="1905120"/>
            <a:ext cx="441936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6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ruff said, “I’ll show you!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Recorded Sound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www.pethealth.com.au/images/Barking_Dog_Bored.JPG"/>
          <p:cNvPicPr/>
          <p:nvPr/>
        </p:nvPicPr>
        <p:blipFill>
          <a:blip r:embed="rId2"/>
          <a:stretch/>
        </p:blipFill>
        <p:spPr>
          <a:xfrm>
            <a:off x="2971800" y="1219320"/>
            <a:ext cx="28195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d laugh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5181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Recorded Sound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blogs.msdn.com/blogfiles/socaldevgal/WindowsLiveWriter/YueMinjunLaughingArt_11385/laughingArtist%5B3%5D.jpg"/>
          <p:cNvPicPr/>
          <p:nvPr/>
        </p:nvPicPr>
        <p:blipFill>
          <a:blip r:embed="rId2"/>
          <a:stretch/>
        </p:blipFill>
        <p:spPr>
          <a:xfrm>
            <a:off x="2819520" y="1905120"/>
            <a:ext cx="38098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ruff ran of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51051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Recorded Sound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www.goldenledgekennel.com/unedited%20images/running%20dog.jpg"/>
          <p:cNvPicPr/>
          <p:nvPr/>
        </p:nvPicPr>
        <p:blipFill>
          <a:blip r:embed="rId2"/>
          <a:stretch/>
        </p:blipFill>
        <p:spPr>
          <a:xfrm>
            <a:off x="1828800" y="1828800"/>
            <a:ext cx="4735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came upon a ri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3760" y="2361960"/>
            <a:ext cx="33526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Recorded Sound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www.fs.fed.us/r9/hmnf/pages/Recreation/images/AuSable_River.JPG"/>
          <p:cNvPicPr/>
          <p:nvPr/>
        </p:nvPicPr>
        <p:blipFill>
          <a:blip r:embed="rId2"/>
          <a:stretch/>
        </p:blipFill>
        <p:spPr>
          <a:xfrm>
            <a:off x="228600" y="1219320"/>
            <a:ext cx="3686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jumped in and sw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Recorded Sound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www.newsday.com/media/photo/2007-09/32646828.jpg"/>
          <p:cNvPicPr/>
          <p:nvPr/>
        </p:nvPicPr>
        <p:blipFill>
          <a:blip r:embed="rId2"/>
          <a:stretch/>
        </p:blipFill>
        <p:spPr>
          <a:xfrm>
            <a:off x="2666880" y="1219320"/>
            <a:ext cx="42102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0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0988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s happy because he loved to sw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5105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Recorded Sound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60bits.net/dogs/AtlasInPoolPawUp200605b.jpg"/>
          <p:cNvPicPr/>
          <p:nvPr/>
        </p:nvPicPr>
        <p:blipFill>
          <a:blip r:embed="rId2"/>
          <a:stretch/>
        </p:blipFill>
        <p:spPr>
          <a:xfrm>
            <a:off x="4419720" y="1371600"/>
            <a:ext cx="453996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3920" y="274680"/>
            <a:ext cx="396252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he got out, he was clea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Recorded Sound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www.lavenderdoggifts.com/dog-bath-731935.jpg"/>
          <p:cNvPicPr/>
          <p:nvPr/>
        </p:nvPicPr>
        <p:blipFill>
          <a:blip r:embed="rId2"/>
          <a:stretch/>
        </p:blipFill>
        <p:spPr>
          <a:xfrm>
            <a:off x="1219320" y="380880"/>
            <a:ext cx="2857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raced back and asked one again to be a nin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4724280"/>
            <a:ext cx="81532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Recorded Sound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Documents and Settings\sdonegan\Local Settings\Temporary Internet Files\Content.IE5\B1RNTORU\MCj04396050000[1].png"/>
          <p:cNvPicPr/>
          <p:nvPr/>
        </p:nvPicPr>
        <p:blipFill>
          <a:blip r:embed="rId2"/>
          <a:stretch/>
        </p:blipFill>
        <p:spPr>
          <a:xfrm>
            <a:off x="2362320" y="1676520"/>
            <a:ext cx="4190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00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was a small d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33440" y="2116080"/>
            <a:ext cx="4677120" cy="3495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1295280" y="5943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 yi ge xiao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d accep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533412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Recorded Sound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Documents and Settings\sdonegan\Local Settings\Temporary Internet Files\Content.IE5\YUTPD0IJ\MCj04244660000[1].wmf"/>
          <p:cNvPicPr/>
          <p:nvPr/>
        </p:nvPicPr>
        <p:blipFill>
          <a:blip r:embed="rId2"/>
          <a:stretch/>
        </p:blipFill>
        <p:spPr>
          <a:xfrm>
            <a:off x="3886200" y="1295280"/>
            <a:ext cx="449280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ruff became the best warrior in all the l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260880" y="1600200"/>
            <a:ext cx="2622240" cy="4525920"/>
          </a:xfrm>
          <a:prstGeom prst="rect">
            <a:avLst/>
          </a:prstGeom>
          <a:ln w="0">
            <a:noFill/>
          </a:ln>
        </p:spPr>
      </p:pic>
      <p:pic>
        <p:nvPicPr>
          <p:cNvPr id="128" name="Recorded Sound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0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 name was Scruf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47920" y="4800600"/>
            <a:ext cx="723888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 jiao Scru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Recorded Sound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bichonpomapoos.com/images/whitePuppy4.jpg"/>
          <p:cNvPicPr/>
          <p:nvPr/>
        </p:nvPicPr>
        <p:blipFill>
          <a:blip r:embed="rId2"/>
          <a:stretch/>
        </p:blipFill>
        <p:spPr>
          <a:xfrm>
            <a:off x="2438280" y="1143000"/>
            <a:ext cx="3810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was white but never could keep cle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890800" y="1600200"/>
            <a:ext cx="2604960" cy="3505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1981080" y="57150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 shi bai se de dan shi yong yuen bu gan 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Recorded Sound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 he looked br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362320" y="2290680"/>
            <a:ext cx="4419360" cy="314316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2133720" y="5791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o yi ta kan chi li shi ka fei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cause he was dirty, he had no frie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2120" y="5029200"/>
            <a:ext cx="723888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 wei ta hen zhang ta mei yo pong y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Recorded Sound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http://nadeemchughtai.com/series4/never-alone_large.jpg"/>
          <p:cNvPicPr/>
          <p:nvPr/>
        </p:nvPicPr>
        <p:blipFill>
          <a:blip r:embed="rId2"/>
          <a:stretch/>
        </p:blipFill>
        <p:spPr>
          <a:xfrm>
            <a:off x="2057400" y="990720"/>
            <a:ext cx="42670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 he was s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4495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o yi ta bu qui 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orded Sound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www1.pgcps.org/uploadedImages/Schools_and_Centers/Middle_Schools/Benjamin_Tasker/SadFace.jpg"/>
          <p:cNvPicPr/>
          <p:nvPr/>
        </p:nvPicPr>
        <p:blipFill>
          <a:blip r:embed="rId2"/>
          <a:stretch/>
        </p:blipFill>
        <p:spPr>
          <a:xfrm>
            <a:off x="3962520" y="1447920"/>
            <a:ext cx="46195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day, he came across a bi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Recorded Sound" descr=""/>
          <p:cNvPicPr/>
          <p:nvPr/>
        </p:nvPicPr>
        <p:blipFill>
          <a:blip r:embed="rId1"/>
          <a:stretch/>
        </p:blipFill>
        <p:spPr>
          <a:xfrm>
            <a:off x="380880" y="5257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ttp://www.wildbirds.com/Portals/0/images/new%20bird.jpg"/>
          <p:cNvPicPr/>
          <p:nvPr/>
        </p:nvPicPr>
        <p:blipFill>
          <a:blip r:embed="rId2"/>
          <a:stretch/>
        </p:blipFill>
        <p:spPr>
          <a:xfrm>
            <a:off x="1295280" y="1676520"/>
            <a:ext cx="58388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d was a ni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063960" y="1600200"/>
            <a:ext cx="30160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Recorded Sound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7:06:01Z</dcterms:created>
  <dc:creator>itsuser</dc:creator>
  <dc:description/>
  <dc:language>en-US</dc:language>
  <cp:lastModifiedBy>itsuser</cp:lastModifiedBy>
  <dcterms:modified xsi:type="dcterms:W3CDTF">2009-04-09T16:17:59Z</dcterms:modified>
  <cp:revision>12</cp:revision>
  <dc:subject/>
  <dc:title>The small dog</dc:title>
</cp:coreProperties>
</file>